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bomb.wav" ContentType="audio/x-wav"/>
  <Override PartName="/ppt/media/image6.png" ContentType="image/png"/>
  <Override PartName="/ppt/media/image7.jpeg" ContentType="image/jpeg"/>
  <Override PartName="/ppt/media/image15.jpeg" ContentType="image/jpeg"/>
  <Override PartName="/ppt/media/wind.wav" ContentType="audio/x-wav"/>
  <Override PartName="/ppt/media/image16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4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1BDE-41D4-4BDD-95EA-525E1CB9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116-149B-45E7-BCA9-CA470D2F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81543-A66D-4EDB-B87A-DA3FEC3B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C43C0-A65A-4DCE-BF7E-0D1924CA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1C162-0034-49AA-9566-F86D10B8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698F1-2D44-4C2D-99A1-667B769A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3C348-5BC2-4C65-AE49-9F24B4A6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2D4D1-E3FF-4C1F-AAF7-E1AF8263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3021A-A122-4AC0-B4EE-FE221E34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0A61D-73A2-433B-9D82-3939408E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A58D6-15FE-4C36-8E6D-951CB733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84BC1-6DD8-47B6-AFF2-6A1E962D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4B6-B1FD-4DC5-88A7-FF28BF9B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F57DB-B344-4AED-9DE4-A1880754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D4F82-371F-459B-93EA-59994A66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5913A-93B8-4516-9AD6-8A4B9135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EA845-F65B-40C1-B5C0-A7BE0C6E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DEBF4-D0BD-4BA0-A54A-C5DB1671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0FF00-0E6B-492F-8605-619730B9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BA223-6FD7-4EC2-B32A-FBE03402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CA08C-2020-4807-B75F-4B555740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24A68-E29A-4063-8C54-DEB400B7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75CC6-8C72-4E49-88C7-0E080C50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886-DCF0-4B54-A6A9-F8FDBFDF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AB09C-4286-4858-B5CD-A1F448B3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74076-FB01-4228-BBD5-6BD1C368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21523-9B42-46B1-A1BD-AFC29458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EBADD-5763-4907-B0CA-4AC2CFBD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D095E-7323-4CD5-B713-5903E579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9E8D4-64F7-4ADA-B130-29D53071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0EEAB-66F4-47F3-8B55-3CEA9B33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D83C4-0DE8-461A-B0B1-08466BED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D78B6-4AAF-47AC-95A3-25CF0F7C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6682C-3F9B-4916-AE2B-3A72857F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1FC3-E199-4601-AABF-D603F42B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D0ED4-A125-49C4-82EC-5CD49C4C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CEB6B-09D5-43CD-BF14-35CE444C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703F5-DD81-4645-B842-2F427A14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07BC5-0665-49AC-84BC-5F41EBE3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AAF66-8BBE-4132-87BD-22E695D1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C6C1B-5E94-41A2-ADD1-91C59A82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6B641-CDDF-4F78-ACCC-4928C3CA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AE658-F90D-4521-A6AF-B0E7246C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4480E-160B-4F81-95E0-942FF9C5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07FB2-F715-4919-B0A9-3F1516DC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552A-9561-41D9-A930-F37677BB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298AD-8114-407A-9F1C-48D1EE51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3E776-32BE-4B04-8F65-8BE98214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3213D-99FA-4666-BAF1-73BF1AD2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558EE-1484-4C4E-9BDE-005A8C2A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34E05-F2F5-4692-9F7E-DFF7C4D0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7BECD-67E8-4313-A19D-22BF74A6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6EDE7-2255-47E7-A350-B9B7849B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FDE70-D50F-4C4C-B492-3E7C65EA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EA4976-6910-44BD-B9AA-49F17F07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F2C3D-9F4C-445A-A03A-4F639610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5A47-CC50-4771-831A-07EBD07D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BB8C80-28BE-42BF-9691-A2DBDB67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28602C-AF0E-4D7B-A12A-CD16C740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831165-6EC2-46B7-8838-7FD61FED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7C79B4-C67D-473A-B97F-9E775B0A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DCB20-4CBE-45B4-A341-4EF0552C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98C7E-666D-43A0-BB8D-F23FBE64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4D3F7-B925-42AA-A5A3-328626DB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8F3578-F3F9-46CF-8E25-53D4093D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ADD18D-5DD8-4620-9F25-8D8C1968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4BCA0C-58BE-41F7-BB40-576E7DD3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FF2E-D8D6-4E16-9460-254348BE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AE03BC-3F46-4ECE-8758-EE63F2BF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876CAD-4CA2-4479-B87A-E6207D40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E984E-A439-49CD-8760-ED544C8C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A5FAF4-C8CB-4D0B-9620-7C776198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78FC6-8474-415A-A190-AE514336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BE2F7F-1DE6-47D4-8FBA-42420834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6B387A-DE04-4F6B-B23D-5D14CB71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6F12AC-816C-4B8B-8663-A5F845AE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B592DC-C1C2-446A-9B91-6AAA5086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1DFE5C-0FDD-43FB-ABA2-D3524509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E1C7-919C-40E3-934B-20729BDD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C01571-20C3-4B53-899F-D622EEC4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206F06-BB98-4ACD-AADB-D6DCB340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84C40E-8947-48D0-8F68-C0500D11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E199A2-F194-40F0-B179-22A71641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5B59FC-6C9A-4CF9-AEE1-FB18C6D4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1C8A98-DC33-490E-A5A8-4425030A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B5D48C-BD52-48A6-8AAB-8EFE86D5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75D51-6563-4A4B-B2C4-C8D8F825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D23F62-275E-44C7-9EED-3FF0D827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AFE2ED-167F-444E-8414-6C6B568D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A834-62FF-486E-956E-FB26BEA2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E398C4-6FF9-40B0-8BEB-0AE86DDD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3CEC16-36FF-45C5-A4C0-0A40A6AE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415526-735D-4ABB-B0A3-D9DD1DF0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D52D10-849E-46BB-B92C-EB9DC8CF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7CFC6A-E46D-46D3-AFEF-D3533541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5C7630-A4BC-4C93-9357-EF746638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F17A01-D00B-4638-AE8B-D5F116EE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9AC7E5-3F7E-450E-9DD6-B3F78AA9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595E2B-F0F8-4413-BD62-E7529308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4AB475-EAFD-4A30-9D57-12BE60C1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9CBB-4914-4124-A8AC-C6162C93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D5083B-71B1-459F-99F5-2CAE0996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68C02E-C963-43E7-B170-E80DF643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5EB106-8D33-44A2-BC18-56A80515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1C8D6B-691C-484B-88A3-20E0792C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E4BA54-20A8-43C2-8382-2C917E7A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9E0C9B-5593-48C3-8236-61C3F7E3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7A5F7D-4F61-4F07-9B15-B2C78E26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47F965-C93D-4F8C-996F-8F28CA30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B6CF89-94A6-45D0-ABC5-BCB68B60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81F0B8-BEC3-43F7-8F7C-EEC4FDDE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1697-D7BE-4FC7-BB32-42171ADA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77E5-744B-4180-9A73-C0A796C2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16FCA1-BDB3-421F-B8CF-32AB52F0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57B486-64F1-4225-8894-25D429BA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7793B0-D62D-4A8A-94E6-B961AAA9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6B63DF-4A1D-4BF7-94EB-361EB488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4543E7-8611-4E05-A12A-214B532A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7AE1FE-1EE6-483B-8D7B-9DF171E7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87B5FE-0561-435D-B2F5-C8244891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7E57A6-ABF3-438A-A11C-54E5983A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102226-5219-45AA-8502-8A6D5795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E35966-4291-4DDC-B2C5-39C95BB6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C495-3227-4B98-ADB9-EEFDA188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66F3DA-1CAE-4891-A85F-A1F6E247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702755-2058-47E5-AAF1-A12DD536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A11C59-6014-4082-A7A4-E7B9163C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FCCA7F-E9A0-4961-9073-47CC9FC5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07A629-5785-4BAC-8E6C-4E22A435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4E7C7D-9FE8-4742-826E-B5676913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F965B3-A1B8-4A9F-8C22-74DCA9D9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7C7017-CE6E-444D-BB0B-2CCB2B1A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373AFF-1FA5-4039-AF6F-1348FF3E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AE0AE8-85D7-414C-BA91-7E27C4C9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CF62-52D6-41B9-BDC7-77A3D0DE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B1F0C5-9DCE-42DA-80A3-4F649CCF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C5A52C-A904-4CF5-8C05-2A12C8D3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754652-D0EE-463B-B740-61BC423E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1A888F-6F44-4779-888E-ADBA7977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6C627F-8C46-4B4E-AEA3-1C995D46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F311F9-13A6-4C7F-8A4A-F0160C50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815134-A921-41B8-B623-F6573134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4B5802-05F1-48C5-8693-5A4C0523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B06DEB-4936-4A09-AE1A-8DCD989B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56E4B0-B7B6-47E9-AF7A-8F4EAF97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982D-0C0B-4A0A-9969-D2977462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6FAC7A-3672-4FD1-8A7B-3E289D81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D08706-FC93-43B6-83A0-5F93657B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7E1F05-30CA-40F8-8084-CBC3128E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985F63-D4A9-42A3-9E8A-BB743884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4647DD-53FE-4EC7-87BC-24170577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1C75EB-7777-488C-99FE-46476389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DCACB4-77C2-4194-BED5-E95A7EDC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B3F93B-FA5D-457D-AD7C-4359D7F4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DB0044-9E45-4E88-B606-9D37CC6E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AB863A-76F8-481F-8DBF-CD5C55D6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3A8B-0648-4879-946B-6EBBC774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58D402-B7FD-4C50-93F5-F2DF1F38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E7C0D7-E85D-4908-BEDC-8BB49E60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44A0C3-3B27-4971-98B0-CE738660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36AF9E-082E-4DEC-9C2B-24A4D57B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0B24FB-A658-4E45-976D-5AF0D32A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855F00-7BB8-475C-A1D6-A3CD123D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8A91DE-D977-4DCC-BE93-A1DF5961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B56BFB-184D-4C23-80EC-EAB2A65C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2DDEE7-585C-4E5C-B971-5CD03FAD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836F0A-7124-454C-BE67-D69C8DFE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8A780-D2EB-4D7B-9DD9-6F788A2B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0BB65A-1F7F-4F9A-B8B7-5D426A9E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9C2BB7-D8FB-4859-8D07-C98B3CFF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167155-27A6-4FAD-9A48-A41B615B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296F56-2A41-48E6-987E-8314372B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5EDDDA-780B-4882-8DE4-4CAFEF32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A14D6B-43DC-4C74-B396-960EE5C2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D0DC69-7C3E-44E5-B69C-E8B195AA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6B855E-A909-4DEB-9DDD-6C6C8C6D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8BAA1B-A71D-490F-A317-F9789AAB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5BE2AA-1220-4B09-805A-010917BC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B671C-88A7-458A-8F5A-F89F0C49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1BFD13-2199-4ED1-87AD-D6E0D13C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C3A411-93AE-4CC7-A738-52F32B34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092B2E-201F-4F90-B520-E090FF99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5F6DD3-7E1B-4784-B696-3CBF6BD9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11EEFB-74B6-421F-A40F-AD1F84EA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7A4C669-74B9-4D0D-B472-72FEF3AA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FDE2A73-56EE-4C28-97C1-73B4D0F9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EA17030-528E-40C8-9B37-07E646E0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C93EA78-6A45-4E5A-92C7-E399832D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0739743-01B9-4C18-A7C7-545F6524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A12EB-8938-4F90-9539-AD807E92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D8A6240-1B5E-44FF-A600-204F284E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D9605C4-7C01-4455-9ADD-E815100F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901854B-8EE7-42ED-9ECC-62E34C42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196DA6D-654C-46C0-B313-1FAE2E7A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32DDBDE-4B93-4E29-8310-1BADB9DA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93868E2-D937-458C-98B3-423E500E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69346D5-DD37-4D2F-8CCD-FAC49BDC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9ED81A7-4317-471F-A900-93BC03B3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BB99ECE-02A9-4048-9878-7EADF11F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17CF68D-81B3-4EB8-BB31-51875479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2F6A2-ED36-463B-935E-2D1FFF45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6011B5C-9C45-4576-854C-A2F0F382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80126F8-FBBD-4C33-A8C7-87A6FD1B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24912E0-DE7B-40E7-AACF-6522E5BC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611629B-B987-4B19-B768-D48BF0F3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25D38B2-C923-4F27-8E64-DBFE3095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DEE69C1-F475-437F-8EC0-79105365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C4B5C2A-C380-4385-B10D-268B2AC3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B2DC3AB-6BC4-4017-BF57-C1BAB717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521E7EA-B560-4883-9D6E-4627A1B2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CC6487-0AE7-4096-98CE-B5CD6916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C80AB-E3CE-46E4-AB8E-BBAF468B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031C95-CFCE-4623-AD1B-DADFB28C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1798F0-C3A8-4D83-AAA1-CAECF5EA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5080B1-0C3B-4455-AFCA-8EA5909E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A2D2F5-F89C-463A-9925-7068FA88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1D8D06-470E-4497-BD6E-F159B345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BF5AFD-1C07-45CA-AF8A-ADD535FD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2008A7-A0BF-48E8-AA83-D9E779F3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1CAEA7-98CE-4FF9-8762-3850C5E8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4A8BD7-9143-4E76-A032-B3EC8A06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B0FB15-A7D6-45AB-9CEE-EA9A7356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7578-0429-40C6-BEB7-079D327F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F63DB-1E85-41CE-917E-C9EF1B7B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E3C0EF-6EAF-4FAA-AD81-70476F07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06AB505-266E-43EC-A0D1-004F8F19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AA4A9DB-76F8-42DF-A6DA-EC22B576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D7209D0-BB26-4130-821E-0E56BFC9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E0DD81E-F971-4FAC-9932-8C302058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550891B-FB61-4DE2-AA8C-B24108F3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6B3CFC4-1454-48AE-B47C-32899BE8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ACAFAD9-0E0A-4513-8A52-033D570A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3701B0A-B1E7-4F2A-8EE6-061CA132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628A16E-BAA1-4562-A546-B4DB051B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4322E-6AA3-46A0-AB59-0C697BFC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9DB6F50-145F-41D3-A2EA-9A91F34B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78B268C-BD20-4675-9F38-22BE05BF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96DBD53-A20B-4C12-95CF-3D1CBD18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159F2-72F6-497F-BB34-D996D502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6BAA8-BE36-49CD-9A65-E1F41D00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3DD37-CC6F-4690-A67E-54B63608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D0E73-187C-42B5-8241-202C5C29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72656-1E72-43DB-B12E-44441849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2F5DA-B5AF-426D-B07C-BCF7E72F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0C9D6-1C2C-4FF0-8CE4-504DF5BD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BC15F-F60B-4326-A854-59DD15EC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4C83-52AD-4FB4-9133-3B7B5409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56098-C91A-4339-BD26-E9624592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38E6F-1DD3-441C-B201-F2063EA9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D06EB-73F8-4323-BD3A-E2C9CB85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EFAFC-737B-4464-9F02-AE7ECF7A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F9E06-E3F3-420E-B7E4-B4D1F80D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5E2DA-C053-4C9E-8063-EF08D978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23B1D-8FDC-4130-AC77-EC9C2743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23E74-ED06-4C95-BA55-EE7895E1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751EB-F27F-4C68-8FE0-41ECC46C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F93DE-3C7B-4030-890A-73727A68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4062-5CB8-4124-86DA-762E7434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E2809-6A7B-4C05-8AB6-B0AF41C9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94D30-DEA5-4963-B48F-6D173E9C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9D95C-C5E5-4350-8507-5CCC5035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81B08-BE1F-4B9C-BC5A-E35DB1A7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2985D-AE11-410D-BA8B-8876608E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7FD9A-2237-49CD-9933-205F9B9D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4A23B-AD1D-4904-9F4F-4C354C31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48684-C298-4DE0-AD3A-DF4BB149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17CDB-77D6-451B-94E5-CB567C40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CA6BF-C591-4AB0-85B2-B1A3E9BD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162-5B58-4B91-8D93-05F5837D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FF2C0-B45F-49B3-91D9-6B415800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61954-A3C5-4B85-9214-5AC89E35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A101C-9427-47E0-AA1D-0441220D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7A606-46BE-423E-BB10-C07797A7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041D6-536C-4D2A-9FAB-6202AB02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9D491-57AD-423A-B6FE-89B8D11B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91B3A-0F4E-400A-BD12-C1DFCF18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E1350-FD50-48A7-8B65-C9F499F7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1EF31-1A16-4CC9-8044-9C6BBF6A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426F1-37B0-4097-8B5C-F2C582F3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83B-847C-4342-B0DA-16313554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B895E-6486-4578-80B6-D9B1CC4A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B68C0-1CBD-461B-86A9-03080809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04D9E-5713-4924-AE4F-658173B8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E3641-B445-419C-A3B3-68ACCE32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38EA2-A2BC-474A-B823-A84BB6FD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DD0F5-416E-42B9-B3EC-75502485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292E7-1A72-4C8E-9207-C397378E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968F6-4ACF-4DCD-9C6B-25AF3471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EF600-E9E3-47D6-B863-9D5591A8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F7DDA-C731-432C-AA36-E8D3812E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F93-6325-40E6-8EF5-AD4A8672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4C04D-05C4-4F95-8B76-0387DA4C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7B759-1F8C-460A-9F5F-F1559571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1483B-9A84-4D46-AEBD-84CC75B8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DA393-1AD2-40CE-ABEE-ED172405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FC943-6171-4D3B-94F3-60FEEA62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F790E-36B4-4AF3-840C-EC986436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B38E4-4FA8-42EA-9C49-9ECA4095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1E6F5-FE95-4CF2-B5D0-755E4156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289B9-2BB3-4541-A273-E78FCAD3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A9ACC-2C60-42AB-BB0B-2CCCAB07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CE1-7825-4654-A6EB-AB3E8D06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D1CF9-AA31-4770-98C3-55D9D305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22F87-B83C-4ACB-A20F-BB6B0462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D4D1B-0290-474A-B499-F3CC44D8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64115-1052-47B0-BB2E-B4F66F9B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7B815-EBAF-426C-ACA8-366BD245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DF483-8228-4CD5-80C5-CCE4D1DC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5D9F2-662D-4389-9A8A-4C6C4670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2D2FF-44F6-4B28-829A-096D4583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7778C-ECBC-4AA7-9D3A-B0AD4F4C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20924-C2ED-46E9-895A-9E9214FF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7462-0B89-4E39-8F82-42A501CCE4E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7ac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42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2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pic>
        <p:nvPicPr>
          <p:cNvPr id="42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4452b"/>
              </a:gs>
              <a:gs pos="100000">
                <a:srgbClr val="eb9385"/>
              </a:gs>
            </a:gsLst>
            <a:lin ang="16200000"/>
          </a:gradFill>
          <a:ln cap="rnd" w="3240">
            <a:solidFill>
              <a:srgbClr val="994733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0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4452b"/>
              </a:gs>
              <a:gs pos="100000">
                <a:srgbClr val="eb9385"/>
              </a:gs>
            </a:gsLst>
            <a:lin ang="16200000"/>
          </a:gradFill>
          <a:ln cap="rnd" w="3240">
            <a:solidFill>
              <a:srgbClr val="994733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5d1d7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5d1d7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1113-625F-40C8-B014-AC83C462DBE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7ac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47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7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pic>
        <p:nvPicPr>
          <p:cNvPr id="47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5d1d7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5d1d7"/>
              </a:solidFill>
              <a:latin typeface="Lucida Sans Unico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9285-D042-4623-B5FA-EAA6A884090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46b8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0DAD-0078-4B68-8AC9-AB2D4A3BFFE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7ac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6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6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pic>
        <p:nvPicPr>
          <p:cNvPr id="56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5d1d7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5d1d7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63B2-EBF6-4F82-B3D7-22019AB5BBE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46b8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9C13-2F7B-429A-A0B4-74F0031353C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7ac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9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650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51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pic>
        <p:nvPicPr>
          <p:cNvPr id="653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54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4452b"/>
              </a:gs>
              <a:gs pos="100000">
                <a:srgbClr val="eb9385"/>
              </a:gs>
            </a:gsLst>
            <a:lin ang="16200000"/>
          </a:gradFill>
          <a:ln cap="rnd" w="3240">
            <a:solidFill>
              <a:srgbClr val="994733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5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4452b"/>
              </a:gs>
              <a:gs pos="100000">
                <a:srgbClr val="eb9385"/>
              </a:gs>
            </a:gsLst>
            <a:lin ang="16200000"/>
          </a:gradFill>
          <a:ln cap="rnd" w="3240">
            <a:solidFill>
              <a:srgbClr val="994733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5d1d7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5d1d7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6C75-D5CA-44D7-83CC-89056626A51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8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0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1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2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3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4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5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48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7D14-D5BE-4920-9BF1-F4FC7F34153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8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9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0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1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2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3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4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5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4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5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51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3C4A-EE28-43B5-8577-F9CA8CC00D1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8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9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0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1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2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3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4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5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6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7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ftr" idx="5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dt" idx="5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3EDC-3101-48D0-AED0-B06875603A1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8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55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57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30EB-6107-494B-8ECD-A03B868C614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42ED-BCA1-4A89-808E-295B4212367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grpSp>
          <p:nvGrpSpPr>
            <p:cNvPr id="52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1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2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3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4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5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6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7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8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9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0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9A83-EC6C-4A53-AF2E-C7662A27CCF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dt" idx="6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ftr" idx="6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sldNum" idx="63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E3E1-1339-49ED-B5CC-F2A9B667454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3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5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6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7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 type="dt" idx="6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 type="ftr" idx="6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 type="sldNum" idx="66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99F3-A275-43E0-B5CC-4B78F85E1071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0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1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2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3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4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5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6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7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8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9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sldNum" idx="67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061A-B629-4ABE-B1DB-C0186508A9E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dt" idx="6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 type="ftr" idx="69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2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3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4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5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6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7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8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9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0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1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Num" idx="7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DA9A-6799-413A-94AF-A54D2A81253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dt" idx="71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ftr" idx="72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4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5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6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7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 type="dt" idx="7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 type="ftr" idx="7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 type="sldNum" idx="7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CD61-5398-4B02-8234-79642FFD0F1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4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5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7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8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9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0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1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 type="sldNum" idx="76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F08F-1A8E-4D6B-9E55-8F37911BCC4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 type="dt" idx="7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 type="ftr" idx="7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7ac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9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pic>
        <p:nvPicPr>
          <p:cNvPr id="9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46b8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D222-5F80-4FA1-8141-25FC84CBFFC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2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99ED-6767-4ADF-A688-02D536F8355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7A2A-5273-4169-B5B3-63F8C98FCCB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23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3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grpSp>
          <p:nvGrpSpPr>
            <p:cNvPr id="235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3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04BA-8FDC-4D56-95D6-4900488FC15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28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8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grpSp>
          <p:nvGrpSpPr>
            <p:cNvPr id="285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8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AF3A-0025-4B30-B751-423F96F4DDF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2075-86C2-48FF-B9F7-AC0F2C3AB91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a1280b"/>
              </a:gs>
              <a:gs pos="50000">
                <a:srgbClr val="f06d56"/>
              </a:gs>
              <a:gs pos="100000">
                <a:srgbClr val="a1280b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375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376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7aca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grpSp>
          <p:nvGrpSpPr>
            <p:cNvPr id="378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379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pic>
          <p:nvPicPr>
            <p:cNvPr id="381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46b8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46b8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F968-CB9B-49DF-B1A2-2C903C4D936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itle 1" descr=""/>
          <p:cNvPicPr/>
          <p:nvPr/>
        </p:nvPicPr>
        <p:blipFill>
          <a:blip r:embed="rId2"/>
          <a:stretch/>
        </p:blipFill>
        <p:spPr>
          <a:xfrm>
            <a:off x="603360" y="-6480"/>
            <a:ext cx="7785000" cy="1768680"/>
          </a:xfrm>
          <a:prstGeom prst="rect">
            <a:avLst/>
          </a:prstGeom>
          <a:ln w="0">
            <a:noFill/>
          </a:ln>
        </p:spPr>
      </p:pic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-1143000" y="6210360"/>
            <a:ext cx="5943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ichele Cochra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5" name="" descr=""/>
          <p:cNvPicPr/>
          <p:nvPr/>
        </p:nvPicPr>
        <p:blipFill>
          <a:blip r:embed="rId3"/>
          <a:stretch/>
        </p:blipFill>
        <p:spPr>
          <a:xfrm>
            <a:off x="1295280" y="1981080"/>
            <a:ext cx="6400800" cy="4286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  <p:sndAc>
      <p:stSnd>
        <p:snd r:embed="rId4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indward side of the Mountain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380880" y="1523520"/>
            <a:ext cx="83059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Mountains effect the climate of an are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These effects are called sea breezes and land breez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Air comes from the ocean, towards the mountai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It’s warm moist air comes toward the front of the mountain, as it rises, it gets coo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There is usually precipitation at the top of the mountain.  (Rain, snow, sleet, or hai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59" name="Picture 3" descr="climbers_890_600x450.jpg"/>
          <p:cNvPicPr/>
          <p:nvPr/>
        </p:nvPicPr>
        <p:blipFill>
          <a:blip r:embed="rId1"/>
          <a:stretch/>
        </p:blipFill>
        <p:spPr>
          <a:xfrm>
            <a:off x="2743200" y="259092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260" name=""/>
          <p:cNvSpPr/>
          <p:nvPr/>
        </p:nvSpPr>
        <p:spPr>
          <a:xfrm>
            <a:off x="1432080" y="341280"/>
            <a:ext cx="59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Top of the Mountain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wheel spokes="8"/>
    <p:sndAc>
      <p:stSnd>
        <p:snd r:embed="rId2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cc"/>
                </a:solidFill>
                <a:latin typeface="Georgia"/>
              </a:rPr>
              <a:t>Leeward Side of Mountai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As the air goes down the other side of the mountain it gets warm &amp; dr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The climate of the leeward side is a deser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63" name="Picture 3" descr="dessert.jpg"/>
          <p:cNvPicPr/>
          <p:nvPr/>
        </p:nvPicPr>
        <p:blipFill>
          <a:blip r:embed="rId1"/>
          <a:stretch/>
        </p:blipFill>
        <p:spPr>
          <a:xfrm>
            <a:off x="2133720" y="3124080"/>
            <a:ext cx="5410080" cy="289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5791320" y="5791320"/>
            <a:ext cx="2895480" cy="685800"/>
          </a:xfrm>
          <a:prstGeom prst="rect">
            <a:avLst/>
          </a:prstGeom>
          <a:solidFill>
            <a:srgbClr val="cc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5" name=""/>
          <p:cNvSpPr/>
          <p:nvPr/>
        </p:nvSpPr>
        <p:spPr>
          <a:xfrm>
            <a:off x="3886200" y="1981080"/>
            <a:ext cx="2286000" cy="4496040"/>
          </a:xfrm>
          <a:prstGeom prst="triangle">
            <a:avLst>
              <a:gd name="adj" fmla="val 50000"/>
            </a:avLst>
          </a:prstGeom>
          <a:solidFill>
            <a:srgbClr val="694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6" name=""/>
          <p:cNvSpPr/>
          <p:nvPr/>
        </p:nvSpPr>
        <p:spPr>
          <a:xfrm>
            <a:off x="304920" y="5791320"/>
            <a:ext cx="2286000" cy="6858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ean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7" name=""/>
          <p:cNvSpPr/>
          <p:nvPr/>
        </p:nvSpPr>
        <p:spPr>
          <a:xfrm>
            <a:off x="2133720" y="2133720"/>
            <a:ext cx="3352680" cy="4343400"/>
          </a:xfrm>
          <a:prstGeom prst="triangle">
            <a:avLst>
              <a:gd name="adj" fmla="val 50000"/>
            </a:avLst>
          </a:prstGeom>
          <a:solidFill>
            <a:srgbClr val="694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untain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8" name=""/>
          <p:cNvSpPr/>
          <p:nvPr/>
        </p:nvSpPr>
        <p:spPr>
          <a:xfrm>
            <a:off x="1523880" y="480060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9" name=""/>
          <p:cNvSpPr/>
          <p:nvPr/>
        </p:nvSpPr>
        <p:spPr>
          <a:xfrm rot="1582800">
            <a:off x="2057040" y="28954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0" name=""/>
          <p:cNvSpPr/>
          <p:nvPr/>
        </p:nvSpPr>
        <p:spPr>
          <a:xfrm rot="1068000">
            <a:off x="1676160" y="396216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1" name=""/>
          <p:cNvSpPr/>
          <p:nvPr/>
        </p:nvSpPr>
        <p:spPr>
          <a:xfrm rot="1882200">
            <a:off x="2590560" y="213372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2" name=""/>
          <p:cNvSpPr/>
          <p:nvPr/>
        </p:nvSpPr>
        <p:spPr>
          <a:xfrm>
            <a:off x="230400" y="312408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m and wet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3" name=""/>
          <p:cNvSpPr/>
          <p:nvPr/>
        </p:nvSpPr>
        <p:spPr>
          <a:xfrm>
            <a:off x="3205080" y="228600"/>
            <a:ext cx="27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ol air and precipitation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found at the top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4" name=""/>
          <p:cNvSpPr/>
          <p:nvPr/>
        </p:nvSpPr>
        <p:spPr>
          <a:xfrm>
            <a:off x="3124080" y="1752480"/>
            <a:ext cx="2438640" cy="2438640"/>
          </a:xfrm>
          <a:prstGeom prst="triangle">
            <a:avLst>
              <a:gd name="adj" fmla="val 50000"/>
            </a:avLst>
          </a:prstGeom>
          <a:solidFill>
            <a:srgbClr val="694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5" name=""/>
          <p:cNvSpPr/>
          <p:nvPr/>
        </p:nvSpPr>
        <p:spPr>
          <a:xfrm rot="8449800">
            <a:off x="6248160" y="198072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6" name=""/>
          <p:cNvSpPr/>
          <p:nvPr/>
        </p:nvSpPr>
        <p:spPr>
          <a:xfrm rot="9439200">
            <a:off x="6705360" y="297180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7" name=""/>
          <p:cNvSpPr/>
          <p:nvPr/>
        </p:nvSpPr>
        <p:spPr>
          <a:xfrm rot="9483000">
            <a:off x="6934320" y="396252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8" name=""/>
          <p:cNvSpPr/>
          <p:nvPr/>
        </p:nvSpPr>
        <p:spPr>
          <a:xfrm rot="9896400">
            <a:off x="7085880" y="480024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9" name=""/>
          <p:cNvSpPr/>
          <p:nvPr/>
        </p:nvSpPr>
        <p:spPr>
          <a:xfrm>
            <a:off x="7317000" y="304812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m and dry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80" name="" descr=""/>
          <p:cNvPicPr/>
          <p:nvPr/>
        </p:nvPicPr>
        <p:blipFill>
          <a:blip r:embed="rId1"/>
          <a:stretch/>
        </p:blipFill>
        <p:spPr>
          <a:xfrm>
            <a:off x="7620120" y="4114800"/>
            <a:ext cx="942840" cy="1693800"/>
          </a:xfrm>
          <a:prstGeom prst="rect">
            <a:avLst/>
          </a:prstGeom>
          <a:ln w="0">
            <a:noFill/>
          </a:ln>
        </p:spPr>
      </p:pic>
      <p:sp>
        <p:nvSpPr>
          <p:cNvPr id="1281" name=""/>
          <p:cNvSpPr/>
          <p:nvPr/>
        </p:nvSpPr>
        <p:spPr>
          <a:xfrm>
            <a:off x="4114800" y="9907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2" name=""/>
          <p:cNvSpPr/>
          <p:nvPr/>
        </p:nvSpPr>
        <p:spPr>
          <a:xfrm>
            <a:off x="3505320" y="9907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3" name=""/>
          <p:cNvSpPr/>
          <p:nvPr/>
        </p:nvSpPr>
        <p:spPr>
          <a:xfrm>
            <a:off x="4724280" y="9907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9" dur="2000" fill="hold"/>
                                        <p:tgtEl>
                                          <p:spTgt spid="1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1" dur="2000" fill="hold"/>
                                        <p:tgtEl>
                                          <p:spTgt spid="1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3" dur="2000" fill="hold"/>
                                        <p:tgtEl>
                                          <p:spTgt spid="1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18:17:48Z</dcterms:created>
  <dc:creator> </dc:creator>
  <dc:description/>
  <dc:language>en-US</dc:language>
  <cp:lastModifiedBy>Michele Cochran</cp:lastModifiedBy>
  <dcterms:modified xsi:type="dcterms:W3CDTF">2012-03-31T15:57:50Z</dcterms:modified>
  <cp:revision>13</cp:revision>
  <dc:subject/>
  <dc:title>Mountain Effects</dc:title>
</cp:coreProperties>
</file>